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413-94F1-4DC0-A72A-9F5BCF0A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69D-4065-49EE-856C-9A47627A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F4F-E236-495E-A11B-19804946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18D-172E-4680-B5A1-1CAB85EB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6F48-B955-4700-A1F4-F8F50C32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A5EF-6C8E-47FD-9669-86C908D7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A56B-7DC0-4599-BCB7-5E0B10C9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32F1-33F1-42FE-8076-431F6C3D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6818-94F8-480D-8F90-BEF302BF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9521-A2A6-4323-9AF5-2D732695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B5E6-1849-429A-AF47-D1A3C4BB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7A1-CC94-4FCB-8720-3632888A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BF4A-3A15-4811-AEE7-A7621041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2EEF-0AC7-4E34-8535-D624CD84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9809-D41A-4E03-A492-B382C2DF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A6CE-6649-42AA-B9CF-D46E3530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707A-6FC8-43E5-A395-92BE481A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C49-F54B-4834-ADBF-C99BB212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8162-3D06-49AF-A8AE-7DEC97D9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892-EE0E-4AB0-9E41-DED0FD46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353-199A-48DE-A9F6-E2A2F066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E7C-EF90-4D94-8FB2-CEAA893C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CEF-6A30-40D5-88B4-39873969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B59-53F0-46F5-8B19-A91C56AA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BC34-10EF-40F0-8906-43174C49AA3F}" type="slidenum">
              <a:rPr b="0" lang="ar-SA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F473-22E7-4818-AB5E-2FE22CCD6FED}" type="slidenum">
              <a:rPr b="0" lang="ar-SA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5443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42920" y="1504800"/>
            <a:ext cx="727416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471348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5640" y="1703520"/>
            <a:ext cx="79200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848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700360" y="981000"/>
            <a:ext cx="4645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19280" y="1014480"/>
            <a:ext cx="64818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7708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7:37:46Z</dcterms:created>
  <dc:creator>أجــك للـحــاسبـات  AGC 4 C</dc:creator>
  <dc:description/>
  <dc:language>en-US</dc:language>
  <cp:lastModifiedBy>tahir</cp:lastModifiedBy>
  <dcterms:modified xsi:type="dcterms:W3CDTF">2006-02-07T12:50:07Z</dcterms:modified>
  <cp:revision>28</cp:revision>
  <dc:subject/>
  <dc:title>عرض تقديمي من PowerPoint</dc:title>
</cp:coreProperties>
</file>