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25D6-2C45-4336-89CF-25E38009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5CB-C956-4A18-B150-B536A9AE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3B8-E119-4A5A-9432-867B645B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35CC-7D59-4FC6-AABA-C04D5DE9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B48-E02E-4C9C-B7DC-8A83B84F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BF73-95E5-4A7F-8B01-B00F6A04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E33F-7507-436F-94B3-48F551E8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13E-5304-4258-BE05-DE61EAE4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15E-8C33-490B-B21F-02A8B4CB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924-E66C-4DB7-94E7-959FEB1C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279-946A-43FB-8944-DDD26C5D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FFC6-1EB4-421C-A1B1-028F82D2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0750-1468-46B1-A304-858B509EFE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40040" y="733320"/>
            <a:ext cx="51102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2560" y="1557360"/>
            <a:ext cx="7777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84360" y="152244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1090440"/>
            <a:ext cx="561672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6000" y="1057320"/>
            <a:ext cx="74883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72723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460872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1235160"/>
            <a:ext cx="51832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758880"/>
            <a:ext cx="75358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504036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2:49:35Z</dcterms:created>
  <dc:creator>tahir</dc:creator>
  <dc:description/>
  <dc:language>en-US</dc:language>
  <cp:lastModifiedBy>tahir</cp:lastModifiedBy>
  <dcterms:modified xsi:type="dcterms:W3CDTF">2006-02-07T12:49:49Z</dcterms:modified>
  <cp:revision>1</cp:revision>
  <dc:subject/>
  <dc:title>الشريحة 1</dc:title>
</cp:coreProperties>
</file>