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8A6-0262-4A8A-85C5-1B44BB2D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CB6-B209-41BE-8F06-C2E71460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E34-256E-4EE2-9B98-826DF047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8C5-8E60-45C5-82BF-FB35E50F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C40-19FE-4D81-9204-13A451D2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FAB-FD7A-487D-B8B5-73328314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FA8-1479-4EA5-90BD-BB6261E4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79A-A60F-437C-80AC-9DBC2619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985-41A9-4A18-9D53-46B3E1A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AE0-407D-4860-A719-D9E3FED1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237-D690-4448-AAC2-2631439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BAE-62A6-4514-A663-C4786D7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54E8-6D7D-422A-A634-F9A44C62C1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0040" y="733320"/>
            <a:ext cx="5110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2560" y="1557360"/>
            <a:ext cx="7777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15224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090440"/>
            <a:ext cx="561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057320"/>
            <a:ext cx="7488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608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23516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758880"/>
            <a:ext cx="75358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9:35Z</dcterms:created>
  <dc:creator>tahir</dc:creator>
  <dc:description/>
  <dc:language>en-US</dc:language>
  <cp:lastModifiedBy>tahir</cp:lastModifiedBy>
  <dcterms:modified xsi:type="dcterms:W3CDTF">2006-02-07T12:49:49Z</dcterms:modified>
  <cp:revision>1</cp:revision>
  <dc:subject/>
  <dc:title>الشريحة 1</dc:title>
</cp:coreProperties>
</file>