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E0D-B9CB-42AE-987C-3AB2EE10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ECBC-845B-4256-9C6F-0221008D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594B-A9B8-497B-9788-5779A03E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8ED7-0EC4-4057-9452-D083DAB6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B7F-18BA-438A-B152-ED112C04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0A2-9F03-43B7-9C53-E57C3838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68A-5CF1-43C2-8375-D0607713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F96-0614-43D0-9295-486A4B4D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8BF1-EBEF-4033-A78A-E4699B3F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8FF-E022-46DC-AC4E-4CE7CB1D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DBCC-D824-4848-A1C5-96512398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D52-FCED-40CF-BBA0-CEB417B5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1A9B-A0BB-491B-8B22-DD23F0F3FC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28680" y="380880"/>
          <a:ext cx="50151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380880"/>
                    <a:ext cx="50151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14280" y="52560"/>
          <a:ext cx="6716880" cy="67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52560"/>
                    <a:ext cx="671688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200" y="1125360"/>
            <a:ext cx="860760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66920" y="423720"/>
            <a:ext cx="64101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3240" y="147600"/>
            <a:ext cx="44575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2680" y="1450800"/>
            <a:ext cx="837864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431640"/>
            <a:ext cx="617220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422360"/>
            <a:ext cx="762012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1121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8:38Z</dcterms:created>
  <dc:creator>tahir</dc:creator>
  <dc:description/>
  <dc:language>en-US</dc:language>
  <cp:lastModifiedBy>tahir</cp:lastModifiedBy>
  <dcterms:modified xsi:type="dcterms:W3CDTF">2006-02-07T12:49:03Z</dcterms:modified>
  <cp:revision>1</cp:revision>
  <dc:subject/>
  <dc:title>الشريحة 1</dc:title>
</cp:coreProperties>
</file>