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CB67-15E0-4319-B876-45990B47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E636-5B20-425E-A035-7F30167A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E120-FE75-4AEA-BB9F-9D7FEC84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9C7-3170-4701-8A83-5A373136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6996-127D-4574-B7AF-C63E4CAB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96B6-C279-4CBD-9062-9392B2AB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A8A2-4AF9-40AE-BDA9-428F25DF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784-E694-4800-B553-82692EDC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0DDB-8F6D-4B04-8990-0937EAA9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676F-A1B4-403D-8513-115B317B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B870-C6A4-4C69-8BEB-DF7F09CA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F22-D7F1-4242-94DD-F7E17AEF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A51F-8096-4C3D-8458-7CD2405C8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76320"/>
          <a:ext cx="8610480" cy="65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320"/>
                    <a:ext cx="8610480" cy="65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316240" y="228600"/>
          <a:ext cx="485928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6240" y="228600"/>
                    <a:ext cx="48592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263680" y="533520"/>
          <a:ext cx="450072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3680" y="533520"/>
                    <a:ext cx="45007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517840" y="609480"/>
          <a:ext cx="441648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7840" y="609480"/>
                    <a:ext cx="44164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04920" y="452520"/>
          <a:ext cx="8229600" cy="59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2520"/>
                    <a:ext cx="8229600" cy="59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417760" y="304920"/>
          <a:ext cx="464040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7760" y="304920"/>
                    <a:ext cx="46404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6400" y="0"/>
            <a:ext cx="560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565200"/>
          <a:ext cx="9144000" cy="57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5200"/>
                    <a:ext cx="9144000" cy="57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473120" y="291960"/>
          <a:ext cx="6197760" cy="627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291960"/>
                    <a:ext cx="619776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16320" y="228600"/>
            <a:ext cx="47066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2:45:56Z</dcterms:created>
  <dc:creator>tahir</dc:creator>
  <dc:description/>
  <dc:language>en-US</dc:language>
  <cp:lastModifiedBy>tahir</cp:lastModifiedBy>
  <dcterms:modified xsi:type="dcterms:W3CDTF">2006-02-07T12:47:47Z</dcterms:modified>
  <cp:revision>1</cp:revision>
  <dc:subject/>
  <dc:title>الشريحة 1</dc:title>
</cp:coreProperties>
</file>