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6EC-7ED0-49B3-B807-CDF410C1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405-328B-4457-9A16-8F56E42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5CF-77E7-4042-BBE6-284A9238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6F8-B918-4429-B1B2-7559D91A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786-6991-4F3F-BAC7-E3C630B5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299-4567-4CB2-9D78-2FEC817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EA2-EACD-44E3-B0F7-70FE5F9B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AB7-EBFB-4A6B-9AE0-A68CDE7F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0D5-C251-4641-ACEC-8B2632A6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43A-5B5A-4FD9-B5F3-69EF512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552-D82D-4081-BEAF-F6C91F81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47A-A270-4247-A1D6-F76D25C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0DA-22CE-4111-86B8-ECF9EC38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76320"/>
          <a:ext cx="8610480" cy="65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8610480" cy="65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316240" y="228600"/>
          <a:ext cx="48592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228600"/>
                    <a:ext cx="48592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63680" y="533520"/>
          <a:ext cx="4500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533520"/>
                    <a:ext cx="4500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609480"/>
          <a:ext cx="44164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609480"/>
                    <a:ext cx="441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2520"/>
          <a:ext cx="82296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2520"/>
                    <a:ext cx="82296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417760" y="304920"/>
          <a:ext cx="4640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304920"/>
                    <a:ext cx="4640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565200"/>
          <a:ext cx="91440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5200"/>
                    <a:ext cx="91440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73120" y="291960"/>
          <a:ext cx="6197760" cy="627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91960"/>
                    <a:ext cx="61977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6320" y="228600"/>
            <a:ext cx="4706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5:56Z</dcterms:created>
  <dc:creator>tahir</dc:creator>
  <dc:description/>
  <dc:language>en-US</dc:language>
  <cp:lastModifiedBy>tahir</cp:lastModifiedBy>
  <dcterms:modified xsi:type="dcterms:W3CDTF">2006-02-07T12:47:47Z</dcterms:modified>
  <cp:revision>1</cp:revision>
  <dc:subject/>
  <dc:title>الشريحة 1</dc:title>
</cp:coreProperties>
</file>