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61C4-6E83-493E-AE0C-3AE96FBC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73A5-C477-4A85-924C-D42589A2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16CCA-B79F-46E8-9109-70600B6E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1ECE8-C1E9-43C9-8093-4B92F386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788F7-10EA-47BE-8BC6-ED1A028C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89885-ADFD-414B-8A1F-AE9A03E0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13698-F624-4809-B47C-4F618E1D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71422-2057-42FC-BF4C-62DDC6A3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33923-D70A-4D45-91A2-991F9FD2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0ED9E-3950-4FBE-87F6-45E13DA0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C9D2E-CD53-489C-AA55-125626CA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0D66A-7621-4E59-B3E5-9F2140CD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939F-BD6E-4677-930E-97BDA5E0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F630E-C931-4E89-AD08-8D60F79E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B7319-C5A8-4674-8907-52DE93CD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5B53D-6331-448A-A55D-4F7D50E2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54592-9284-46DF-946C-009BFC5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442D3-C970-4C93-9482-B78DC04C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08255-1E82-4DF5-BA92-58B3DEA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936DA-7281-4FFB-ACD9-2F7534C6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08815-F040-4908-A4D6-BFA06447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A1679-9234-4D8E-8BEC-A6BD0BFA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D7267-81F1-469F-8E45-1702BC42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AE12-3856-43B2-91C7-132824CE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162B3-9A28-4833-A9FA-678FD9B7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FF8B8-479E-4EE7-96FA-A82FD4D4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7669E-614B-47F6-A22C-6E227790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35A8A-1D52-41BB-83B4-A0F489B5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2C330-3668-494C-825E-3869995E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6AE16-E546-4DC9-8FFA-26284987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04AF9-56EF-4A0C-920B-377868C1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732FD-639F-4B65-A8DA-67B62876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4B33A-6251-455D-AA9C-0DB71240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72CE4-3FA9-4FBF-86DB-9D406F6D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FB02-323E-41A5-802B-D7C7DA15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A5880-DC35-4B54-8D81-E529BA9B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5A0DA-D4D0-4E77-A6E0-B04850D4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6226D-9D99-449D-8F49-787202F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90BAF-BD9A-4C3D-9D1D-2527595E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59DE3-7C59-47B3-858C-28EE4FEA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19637-77F9-43B5-B91F-F1CD756C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7EE0D-41CC-43D5-B21A-FEDA5F84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19600-6EE9-46F1-B30A-19D0050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504C0-C504-4BFB-ABC5-B41E344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D6789-61DA-4407-BCFD-50D14018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7885-6F34-41DB-8830-E1598F5F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98ED8-F0EB-4F0B-82F1-0A7B8EA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68A49-1E13-42B1-AEC8-3299A89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C1FC9-3E4A-4700-A89F-84FC8E93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7BB21-A3EF-4FBB-8E2F-9FC50630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D1C9E-48EB-404E-A972-B402E823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2FF41-E76B-42AA-88F6-6DE78429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25948-E63F-4C76-A673-F08ECEDA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252C2-DB88-4EE3-918B-49BFCDB2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8E2C8-DEEA-4E51-8698-0A043745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5B282-09F8-4056-9892-6641E97A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1E6D-905E-4EAD-A20A-E42F508C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60B6F-2FF6-4956-BAD6-A194EC22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FB29A-9C9A-45F2-9528-B6E3A5A6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4362F-55D5-4DBB-879B-0A8738AA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79AE4-3DEC-4849-B74B-4F5BD15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3F9EB-141D-47C0-AEFF-E30BCBB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296F4-A002-4282-A8DD-8B2A3BE0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86F69-2555-4BFD-96A1-C7EBE283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05459-52FE-4E68-8769-A78704C7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A64E3-31B2-46C5-9B0F-37226E6C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77B7B-C3C6-4C26-8323-48839316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A94B-AF00-44D6-9EAF-6440DFF1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54CDF-064E-4071-A28F-9A92E3B7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465DC-F055-4C43-87EB-DB86017E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5F0B7-5042-4D89-A08D-D3178631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0E290-B5DC-4619-896B-A0F2757A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0BB9A-FCF7-4D22-ABF9-08350BF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9202B-6099-4459-9943-2548023A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ACEF1-2EBC-4683-AA92-2DEDD182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FA473-7A4D-4272-A7A3-E428460D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B3A3C-01CF-47AE-8FD7-8EA69ECA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921E5-405F-4948-A602-58EBF02B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FF2D-E221-4159-9077-FE3B2759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E3D63-BD02-478C-A093-9027AA6A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BC53C-3C3A-428C-81CA-D32C380E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FF45F-2E06-4D39-8B4B-4300DCB9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F5238-AA51-43AA-B34E-3AC1EEFD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6A1FD-57B9-450C-842A-BFF18FEE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5245F-B402-4D30-BA50-FC8CC94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283A3-91EE-49DA-BE53-04E980ED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5F3F57-33C4-4D65-B547-CFCB4DA8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429CB-5561-457B-8C01-8A453551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17756-0B35-4B49-9AE7-99D52F01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1079-A859-44A1-B760-64C02253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90FA1-B108-492E-93E3-D1192CF9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6E217-A5EE-45E3-9512-5080C5C7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7C4F9-D055-4F03-B2CF-3D108EE0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C0E8F-6508-446F-9EB7-C602250C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53B92-033C-46C6-8BB3-578C793E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A57AC-B518-40CE-97E6-9ED075D9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8BB54-A5C4-4A8C-8EA6-DC2940D3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69F89-1C65-421E-8B78-1F652D44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7EB92-AAAE-40AC-BD72-F8DC1115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151B8-2F2F-4E81-8BA8-6AC70AF3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856C-F121-488C-AF03-D75D963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2CBC8-CBA0-49D3-A00E-35BD2DE7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0CA41-4AF1-4D8A-A9AC-15204D2D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E7739-7CFB-45C3-95F5-8AFFE27F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582A-2FBF-4FC4-8E70-15DB7568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A457-90C8-4049-AF44-1FACEB80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0412-901E-4A91-9E35-6234D8D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1DA4-B71E-4B1F-86D1-82CACB6F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A018-60A1-47E7-817B-36FC3478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8B2E-DE3D-4307-AD56-06848D20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D8CD-9D99-4C06-8742-53CD2D50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DE8CC-2DCA-46A6-981B-05460C93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1471-99EA-4182-8BB8-B9CCD6A8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48060-C40A-469A-A0C2-F7EF7A75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3E24-873B-41F7-94AA-0A567024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BAEE-A128-4906-BB59-9A385DD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C6F5-6BFF-4DC8-9FF6-232091AD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F4BC-D5C5-48AD-B85A-1CD3735C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AF91-F8D2-4BC7-8101-01D139F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BCFF-254B-44A8-999F-977974B7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33F4-D849-4640-B463-F36E243D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595C-1EAF-4B81-BBDA-C84C7DBC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49EC-74B6-48D8-8D68-06E6A2AB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45FB-D318-4DC3-83C7-5217C8C3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911A7-112D-45B6-B9EB-2CFCFAA4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1559-59E8-4960-9102-78762847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CC4B-DBE6-4986-AB2C-AF87DE91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6FB0-D670-45C1-A2C8-FEE8D205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E5FA-096E-44F6-BE2C-7B75EEB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8FDB8-4386-4F04-9E2D-243C10BB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A91E-B06B-4956-9BE6-4C7B97E9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060D-CAB4-4383-A814-568E68EF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9A1A-AD03-4936-95C5-AFD3A627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6352-853F-4547-BD31-CF608FE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2E8C-C20E-4B17-B016-1F2FB6A5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567D-1979-4028-8983-48AEE5A7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539CF-36E2-4560-9C53-76B66230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9770-480F-4FFA-87D6-0E37F24B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D3888-5402-4BE2-AD39-04D99ED2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BC900-CC8A-4A92-B6BD-A2E0C310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77A5-AC3E-4AE6-ACB1-59E9998E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92E6-4370-4B14-9457-5849F717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E2F4-0303-43F7-A36C-F7B8049B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C5C6-A47F-41F5-9EA6-474738FC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B9659-A9DF-43A3-A41E-EBB24FBE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BB07-1EFB-40CA-82AF-BDBAFD0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8738-DDA3-499D-8BCC-8B77940E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38E16-5644-43FF-B073-45995828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23F8-98EC-42A5-B928-EBF10DCE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3FD7B-2DB5-4E6D-B64D-CDCBB222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29343-AEB4-4556-BE7A-D9EAAE28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0D613-DE62-42CE-B834-7E0356D8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AF84B-56EE-43D6-A376-DFCBDE53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488BD-26DE-4782-BD41-EDF705E4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BCAC9-28C0-40F5-BB1C-982B8FF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CEE08-38DF-4B73-8461-9450EB81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BFF40-4CD7-41E7-9E54-523352DC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33800-E58E-4089-8CF2-3CA2B5C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2C09B-2F93-4690-9FBB-B1475B53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6180-31B7-4192-9227-A01F9277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E2822-0A88-4262-80B9-9170B79C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0581C-22DD-46AF-923B-11A32384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26190-0C38-43FF-9A64-43647B38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0080C-116A-4F28-B34D-50F56DC6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BFF0-D9E4-4AD9-B72C-73216E89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153C5-7B53-449F-B3D2-5F43976F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4622-039F-4230-B28F-65D9E795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B2893-51D6-427D-A18F-F2531729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56E7B-73C6-4409-BFF3-B088290F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9AF3C-7D36-40A2-AD4C-4C32482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DBCF-558E-4688-B857-DCEE3187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0C7D7-CD15-48AE-ADDF-77EBE7A9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BFC31-632B-470C-BF68-AEAE5DF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8A9B8-A4F1-432A-A99D-494CEEFF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A57DC-3ED5-4C97-B46E-81F04ADF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15661-9355-4CAC-8BE4-C803046E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1AAE63-EF30-4CC2-9680-628BF849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DC5FD4-FED8-4852-82DA-30BAE795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C7FC6-3747-4004-B90F-E0374164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CB84E-491E-4CFC-9094-56917680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A14834-A006-4015-AE7E-CAB6FD3F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E2A6-C6AA-4826-8657-29CB4E00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BA146-E137-437A-A6CE-84DECF90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82BE0C-BEA1-4951-BC66-EB2A987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5E1C06-88DC-46E2-BCAB-144E335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B0C7D-F0E1-4577-97D4-10A31EC2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DC7357-3B01-4A0B-977F-FF2344D8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40F17-D732-4BFC-9099-808C9596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CDE0ED-E33E-4F2B-9E4A-25E7E382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396B2-DD0E-4E42-9462-FE18BA95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356CA-369A-4FAC-B1A3-9DE7AA99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E99D9-46B0-4AB2-9DCF-EABDAC7C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49A-7193-4622-B255-F379148E8684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45E6-CC90-4E46-A795-E674670F6E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1AB6-F038-48EF-80EB-64FDEA0FCB1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299-5BC7-4F4A-9DC2-9E2BD761067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7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6306-ED02-4E04-9931-448D0E5D7BAC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4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CE4C-7FCA-41F6-8EB9-571855466C11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5DA-8239-407E-B909-3BD985D33FDC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F830-EC56-4067-8BDB-01FF559186E2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9134-81DE-470D-A595-EDB0EA39097B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01DE-7E9B-4E8E-B580-3EB8D07A1A56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E14-91B7-4D63-8429-28E55D5F7F6D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7241-FDA0-4EEB-8D38-A6904E4BDE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4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4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823C-1B30-4480-A02B-59A26F19F8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4506-65D1-407F-9997-BE47429805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3BDA-E421-4272-BA6F-C2F2514085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C758-8573-4804-B36C-2C23C29BF7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1403280" y="259920"/>
            <a:ext cx="63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كون مشرفاً تربوياً  مبدع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e Outline Pat"/>
              </a:rPr>
              <a:t>محاض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أعدّها ويقدمها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حمد بن حسن الشمرا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دير إدارة الإشراف التربو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الإدارة العامة للتعليم بالعاصمة المقدس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7777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لثاً :  خصائص الإبدا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كتشاف علاقات  جدي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ستنطاق تلك العلاقات والإفصاح عن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بط بين العلاقات الجديدة وبين العلاقات القديمة التي سبق لغيره اكتشاف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توظيف العلاقات الجديدة لتحقيق أهداف معين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إحجام عن الأخذ عن الآخرين إلا بالقدر الذي يخدم ويحقق الإبداعية لديه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ملاحظة التناقضات والنواقص في البيئ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698560" y="333360"/>
            <a:ext cx="3889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Monotype Koufi"/>
              </a:rPr>
              <a:t>صفات المبد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ذه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قدرة عالية على التفكير الإبداعي ويحب التجد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ذاكرة قوية في بعض الأمور ، وقادر على الإلمام بالتفاصي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تاج إلى فترات تفكير طوي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تعامل مع الأشياء المعقدة والمتنوعة والتي تحتمل أكثر من تفسي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الملاحظة الشديدة لكل المسارات والأساليب للموضوع الذي يه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ديه قدرة عالية على تلخيص الأشي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ركز على النقد البن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826920" y="622080"/>
            <a:ext cx="69948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بالأشياء التي تحتمل الشك ولا يمكن التنبؤ 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دائم التساؤ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عدد الميول والاهتمام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قترح أفكاراً قد يعتبرها الآخرون غير معق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متع بالاستقلالية في الرأي والتفك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أل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كر بشكل أفضل في فترات الهدوء والفراغ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بطيء في تحليل المعلومات سريع في الوصول للح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نفس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كيف بسرعة مع المتغير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تميز بعمله ولا يحب التقل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فائل  بطبيعت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أحاسيسه ومشاعره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نهزم ولا يهرب من المشكلة بسر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ويتحمس لأفكاره ومشروعاته الشخصية ويتبناها ويثبت وراءها حتى ينفذ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ثقة بالنفس ، والشعور بالقدرة على تنفيذ ما يريد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ستسلم بسه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لك قدرة كبيرة على تحمل المسؤولية في الأمور التي يح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بادر بالعمل ومستعد لبذل الجهد فيما يحب ، وذو طموح عالٍ جد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794088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عمل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حبذ القيام بالأعمال الروتين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قيام بالأعمال التي تنطوي على التحد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يل إلى المغامرة ويحب التجري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عامل مع المواقف الغامضة وحل المشكلات الصعب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ثابر في عمله ، و يتابع أفكاره بجدية بالرغم من معارضة الآخر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عى دائماً لتحسين عمل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ساءل عن تطبيقات النظريات والمبادئ القائ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إنسا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حساس ولديه روح الدعابة والفكاهة في ضوء ما تمليه الأخلاق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هذب ولكنه صريح ومستقل ولا يحبذ السلطة أو التسل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مقاومة ضغوط الجما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مل حتى لو قاومه الآخرو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ثناء والمدح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شجاع ومقد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انفتاح على التجارب الإنسانية والمحيط الخارج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شعر بقدر كبير من الغبطة والسرور عندما يمارس العمل الذي يبدع في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صبو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9900"/>
                </a:solidFill>
                <a:latin typeface="Arial"/>
                <a:cs typeface="Monotype Koufi"/>
              </a:rPr>
              <a:t>شروط الإبدا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أصالة : أي قدرة الفرد على توليد أفكار جديدة 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طلاقة : أي قدرة الفرد على إنتاج كمية كبيرة من الأفكار 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في وقت محدد ( بنك القدرة الإبداعية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مرونة : أي تنوع الأفكار ( تتعلق بالكيف وليس بالكم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حساسية : القدرة على تحسس المشكلات وإدراك طبيعتها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استنباطية : القدرة على الربط بين الأفكار في الوقت ذاته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e941c"/>
                </a:solidFill>
                <a:latin typeface="Arial"/>
                <a:cs typeface="Monotype Koufi"/>
              </a:rPr>
              <a:t>تجاوز المعوقات ومواجهة التحديات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104560" y="1676160"/>
            <a:ext cx="5915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احذر من الإيحاءات السلبي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طاقتي محدود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رأيي غير مسم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لا أستطيع مقاومة التيا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من النوع الذي يطبق الأوام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خاف الإحرا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7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2123640" y="836640"/>
            <a:ext cx="5410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الج نفسك بنفسك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طاقتي أو ميولي أو هواي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كيف أستمتع بوق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توجه إلى إنسان تثق به للاستشار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إيجابياتي وسلبيا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شجع نفسك وكافئها على ما أنجزت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سخر من نفسك ، ولا تقلل من عمل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حكم بسرعة على الأم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9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28352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تعلم أساليب قتل الأفكار ... كي تتجنبها ( كن إيجابياً ومتفائلاً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ود نفسك أن تساهم بفكرة ولو كانت صغيرة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درب نفسك على تحريك خيالك باستمرار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6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لا تحرم نفسك لذة التفكير واستخدام طاقة عقلك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واصل التحدي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00"/>
                </a:solidFill>
                <a:latin typeface="Arial"/>
                <a:cs typeface="Monotype Koufi"/>
              </a:rPr>
              <a:t>أولاً مفهوم الإبدا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قال الله تعالى :</a:t>
            </a: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بديع السموات والأرض )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وجدهم لا على مثال سبق</a:t>
            </a:r>
            <a:br>
              <a:rPr sz="3200"/>
            </a:b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 قل ما كنت بدعا من الرسل وما أدري ما يفعل بي ولا بكم )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ا كنت أول مرسل بل سبق قبلي كثيرون منه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الإشراف الإبداعي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703160"/>
            <a:ext cx="854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هو ذلك النوع الذي لا يقتصر على مجرد نتاج الأحسن ، وتقديم أعلى نوع من النشاط  الجمعي ، وإنما هو حفز الهمم ، وتحريك القدرات لدى المشرف لتخريج أحسن ما لديه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أي أن هذا النوع يعمل على استثمار قدرات المعلمين وإمكاناتهم العلمية والمهنية وإلى أقصى حد ممكن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صفات المشرف التربوي المبدع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مرونة التفكي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صبر واللباق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ثقة بقدراته الم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غبة في الاستفادة من تجارب وخب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إيمان بقد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ؤية الواضحة للأهداف التربوية ، والاستعداد للسير إلى أفضل السبل الموصلة لها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 فطري    ؟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مكتسب  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9900"/>
                </a:solidFill>
                <a:latin typeface="Garamond"/>
                <a:cs typeface="Monotype Koufi"/>
              </a:rPr>
              <a:t>شكراً لإتاحة الفرصة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9900"/>
                </a:solidFill>
                <a:latin typeface="Garamond"/>
                <a:cs typeface="Monotype Koufi"/>
              </a:rPr>
              <a:t>و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9900"/>
                </a:solidFill>
                <a:latin typeface="Garamond"/>
                <a:cs typeface="Monotype Koufi"/>
              </a:rPr>
              <a:t>لحسن الإنصات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67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مفهوم الإبداع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عملية الإتيان بجديد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قدرة على حل المشكلات بأساليب جديدة تعجب السامع والمشاهد 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تنظيم الأفكار وظهورها في بناء جديد انطلاقاً من عناصر موجو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القدرة على تكوين تركيبات أو تنظيمات جديدة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"/>
          <p:cNvSpPr/>
          <p:nvPr/>
        </p:nvSpPr>
        <p:spPr>
          <a:xfrm>
            <a:off x="324000" y="30877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4000" y="34776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في اللغ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أبدعت الشيء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اخترعته على غير مثال ساب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والمبدع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هو المنشئ أو المحدث لأمر لم يسبقه إليه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  أحد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e103"/>
                </a:solidFill>
                <a:latin typeface="Arial Black"/>
                <a:cs typeface="PT Bold Stars"/>
              </a:rPr>
              <a:t>مصطلحات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خيال : هو التصور أو التوهم لشيء غير موجود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(أول خطوات الإبداع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بتكار : هو الإبداع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ختراع : الإبداع العلمي ( طائرة ، كمبيوتر ، صاروخ ، 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كتشاف : كشف شيء موجود في الطبيعة وكيفية استعماله وتصنيعه 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( المغناطيس، الكهرباء ، .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ذكاء : سرعة الفهم والاستنتاج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بة : قدرة خاصة تجعل المرء يتقن في مجال الموهبة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وب ، والعبقري ، والمتفوق عقلياً : صفات لمن نسب ذكائهم عالية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669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hi-IN" sz="48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نياً : دوافع الإبداع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3600"/>
            </a:br>
            <a:r>
              <a:rPr b="1" lang="hi-IN" sz="4400" spc="-1" strike="noStrike">
                <a:solidFill>
                  <a:srgbClr val="ffe103"/>
                </a:solidFill>
                <a:latin typeface="Arial Black"/>
                <a:cs typeface="Akhbar MT"/>
              </a:rPr>
              <a:t>يمكن تصنيف هذه الدوافع إلى ما يلي :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 دوافع ذاتية داخل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بيئية خارج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مادية ومعنو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خاصة بالعمل الإبداعي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324000" y="321300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7846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1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ذاتية الداخل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ماس في تحقيق الأهداف الشخصية ( يكون مفيداً للمجتمع 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قديم مساهمة مبتكرة وقيمة وصياغة جديدة مبتكرة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معالجة الأشياء الغامضة والمعق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جريب أكثر في مجال العمل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صول على رضا النفس وتحقيق الذات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611280" y="2122560"/>
            <a:ext cx="726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 الدوافع البيئية الخارج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اجة إليه في مجالات العمل المختلف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يوية والنمو يحتاجان إلى ومضة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تصدي للمشكلات العامة والخاصة يتطلب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نا في عالم سريع التغير ويحتاج إلى صنع الأحداث بطريقة 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 التقدم والازدهار مرتبطان بقدراتنا ال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258920" y="1341360"/>
            <a:ext cx="5973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مادية والمعنو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كافآت مال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تقدير وثناء وسمعة وشهر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رتبة علمية مرموق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درجة وظيفية متقدم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قبول الناس ورضاهم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خدمة الأمة أو الوطن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رضا الله سبحانه وتعالى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539640" y="2773080"/>
            <a:ext cx="69804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4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 - الدوافع الخاصة بالعمل الإبداعي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623880" indent="-2397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غبة الشديدة في إيجاد الفكرة والحصول علي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6:55:50Z</dcterms:created>
  <dc:creator>Compaq User</dc:creator>
  <dc:description/>
  <dc:language>en-US</dc:language>
  <cp:lastModifiedBy>O</cp:lastModifiedBy>
  <dcterms:modified xsi:type="dcterms:W3CDTF">2003-04-06T21:42:46Z</dcterms:modified>
  <cp:revision>24</cp:revision>
  <dc:subject/>
  <dc:title>الشريحة 1</dc:title>
</cp:coreProperties>
</file>